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11.png" ContentType="image/png"/>
  <Override PartName="/ppt/media/image4.pct" ContentType="image/x-pict"/>
  <Override PartName="/ppt/media/image5.png" ContentType="image/png"/>
  <Override PartName="/ppt/media/image10.png" ContentType="image/png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286D-3B3B-4E2E-B603-BA2E2686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3C2-FEA5-448B-A25F-8BEFFCB6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FE6-D8CA-4084-8C84-7921754D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799-DD1A-42EC-9091-03945EE7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67F-5FF4-46CC-9597-B89D258F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F4B-D42C-4EC8-AB34-5F6B5FB3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F2C-5DA5-4E77-836F-88A528C2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516-2D97-4219-B7E5-0DB3C60C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770-9B53-478F-B46B-D1FF5191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F0B-B70C-4284-BE3A-D4B4A5BC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837-48BB-46C5-AB48-73FC31E1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D62-AFE8-411B-AC25-3DA7564F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DE7C-4E6B-4B61-A9A9-BBC92511C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ontology 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991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722160"/>
            <a:ext cx="8521920" cy="61358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K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902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 include CD markers and T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419112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 terms for types of T cell currently exist in the Cell Ont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ly divided into immature and mature subsets, and into alpha-beta and gamma-delta sub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us term ‘T cell’ is the parent term for all types of 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4960" y="738360"/>
            <a:ext cx="8574120" cy="5891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ature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ure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080" y="1676520"/>
            <a:ext cx="8626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Ontolog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issues for 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“thymocyte” to replace imm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definitions more precise. DN1 thymocyte  - 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the concept of naïve versus antigen experienced T cell - instead of “matur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dditional T helper subsets - introduce transcription factors as part of the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apsed immature and mature T cell into the T cell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de definitions more precise. DN1 thymocyte  - 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some generic terms such as helper T cell, memory T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cells have two pa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ed the development s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2400" y="1828800"/>
            <a:ext cx="902160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84582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9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458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9:39:52Z</dcterms:created>
  <dc:creator>Penelope Morel</dc:creator>
  <dc:description/>
  <dc:language>en-US</dc:language>
  <cp:lastModifiedBy>Penelope Morel</cp:lastModifiedBy>
  <dcterms:modified xsi:type="dcterms:W3CDTF">2008-07-24T16:58:42Z</dcterms:modified>
  <cp:revision>5</cp:revision>
  <dc:subject/>
  <dc:title>T cell ontology</dc:title>
</cp:coreProperties>
</file>